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6A9-61A0-48A8-A7BD-10734AAB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D04-59FF-4927-9676-94FEC436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245-5517-41B0-A0E1-CF08914B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D40-945D-4A47-ACD6-D80BE987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83B-33E4-4430-8837-4ECEF08F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616-3CAA-4A5B-8DDD-AE801469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52F-4311-40F9-B579-369C473D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914-0082-444F-9027-7C968A25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EEA-804E-4BBF-B9B2-C5132B43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3DF-101C-4BF5-B49E-E1CC4496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CAF-E5DD-4121-832A-69BE237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5FB-99EA-4672-A3CC-BFEFA85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B6E-ADCC-40AD-A7D5-62E4E06AF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Your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r are trying to choose a topic, think abou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opic interesting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opic acceptable to my profes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opic appropriate for my cou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answered yes to the first three questions, think abou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opic too bro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so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opic too na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future of space travel by eccentric millio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nal ques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opic do-able with the time, training, and resources I hav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topic: the importance of space exploration for international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y topic: biomedical research models for the study of astrona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help finding a top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a subject encyclopedia! There are lots of them in the reference area of the library! (insert picture 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current books in PacifiCat and glance at the tables of contents.( screen sh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urrent magazines and newspapers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9:04:48Z</dcterms:created>
  <dc:creator>lknight</dc:creator>
  <dc:description/>
  <dc:language>en-US</dc:language>
  <cp:lastModifiedBy>lknight</cp:lastModifiedBy>
  <dcterms:modified xsi:type="dcterms:W3CDTF">2006-11-07T22:22:06Z</dcterms:modified>
  <cp:revision>3</cp:revision>
  <dc:subject/>
  <dc:title>Choosing Your Topic</dc:title>
</cp:coreProperties>
</file>